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22704"/>
        <c:axId val="81796787"/>
      </c:barChart>
      <c:catAx>
        <c:axId val="40322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96787"/>
        <c:crosses val="autoZero"/>
        <c:auto val="1"/>
        <c:lblAlgn val="ctr"/>
        <c:lblOffset val="100"/>
        <c:noMultiLvlLbl val="0"/>
      </c:catAx>
      <c:valAx>
        <c:axId val="81796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22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6F1-7307-4960-8121-E13A1C6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CA3-2B0F-46AE-B3CC-F5222B6E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E60-9AB7-4B16-9E25-2441117B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758-72E0-46BA-8AE9-6A112E11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4BF-3B04-456E-BF94-46A112DE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C1C-37E0-4425-A198-E6784B4F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B2B-F937-44A8-A661-B368322D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5802-BA12-493C-AD68-3E7AA2A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1CE-5727-42D1-8709-16A122B3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376-D308-4BFF-8B8D-1529AFD7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EF1-A744-406B-BC58-407D382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1C0-3314-4C6C-B6DB-7B4E584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0FD8D-8671-41B3-A58F-6FD06102CA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